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E6F-00CF-4623-9AE8-F356BA10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1D3-ECA5-4A92-9961-85F44987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B83-617B-408A-AB4F-967022AF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A66-258C-41B0-8308-BCD8F688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80E-EEB7-4B91-925A-872E2B80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207-B896-4F63-8601-40C899B7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3E4-82C8-4A83-9017-4FD153F7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C7B-88DB-43C3-ADA7-3DC25252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74E-FC9F-4F45-B6E0-38A5C7BD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A29-7A7A-47F1-B5FE-63DE0D17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92F-EC2F-4D89-9305-04DFCE1B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47A-077C-40E9-B66B-414B80A8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FEC8-057B-487C-AA96-B2353068D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b5yTanmi7A&amp;feature=related" TargetMode="External"/><Relationship Id="rId2" Type="http://schemas.openxmlformats.org/officeDocument/2006/relationships/hyperlink" Target="http://www.youtube.com/watch?v=bHMQEggEG4k&amp;feature=related" TargetMode="External"/><Relationship Id="rId3" Type="http://schemas.openxmlformats.org/officeDocument/2006/relationships/hyperlink" Target="http://www.youtube.com/watch?v=BoE5zaAjr8Q&amp;feature=related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s, Ethos and Pat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hos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8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advertisement appeal to emotion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H1920-72dpi"/>
          <p:cNvPicPr/>
          <p:nvPr/>
        </p:nvPicPr>
        <p:blipFill>
          <a:blip r:embed="rId1"/>
          <a:stretch/>
        </p:blipFill>
        <p:spPr>
          <a:xfrm>
            <a:off x="4724280" y="1066680"/>
            <a:ext cx="3772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office needs"/>
          <p:cNvPicPr/>
          <p:nvPr/>
        </p:nvPicPr>
        <p:blipFill>
          <a:blip r:embed="rId1"/>
          <a:stretch/>
        </p:blipFill>
        <p:spPr>
          <a:xfrm>
            <a:off x="3200400" y="685800"/>
            <a:ext cx="5943600" cy="5776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52280" y="1066680"/>
            <a:ext cx="31244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ow do Americans feel about drin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wine opener"/>
          <p:cNvPicPr/>
          <p:nvPr/>
        </p:nvPicPr>
        <p:blipFill>
          <a:blip r:embed="rId1"/>
          <a:stretch/>
        </p:blipFill>
        <p:spPr>
          <a:xfrm>
            <a:off x="5124600" y="304920"/>
            <a:ext cx="4019400" cy="594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28600" y="533520"/>
            <a:ext cx="4648320" cy="57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omer-to-alcohol"/>
          <p:cNvPicPr/>
          <p:nvPr/>
        </p:nvPicPr>
        <p:blipFill>
          <a:blip r:embed="rId1"/>
          <a:stretch/>
        </p:blipFill>
        <p:spPr>
          <a:xfrm>
            <a:off x="4648320" y="609480"/>
            <a:ext cx="3870360" cy="5943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228600" y="304920"/>
            <a:ext cx="4038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amily guy"/>
          <p:cNvPicPr/>
          <p:nvPr/>
        </p:nvPicPr>
        <p:blipFill>
          <a:blip r:embed="rId1"/>
          <a:stretch/>
        </p:blipFill>
        <p:spPr>
          <a:xfrm>
            <a:off x="4876920" y="457200"/>
            <a:ext cx="3801960" cy="5791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380880" y="380880"/>
            <a:ext cx="358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omer 2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095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28600" y="0"/>
            <a:ext cx="3352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o not disturb"/>
          <p:cNvPicPr/>
          <p:nvPr/>
        </p:nvPicPr>
        <p:blipFill>
          <a:blip r:embed="rId1"/>
          <a:stretch/>
        </p:blipFill>
        <p:spPr>
          <a:xfrm>
            <a:off x="4122720" y="0"/>
            <a:ext cx="5021280" cy="6629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380880" y="45720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-women-alcohol2"/>
          <p:cNvPicPr/>
          <p:nvPr/>
        </p:nvPicPr>
        <p:blipFill>
          <a:blip r:embed="rId1"/>
          <a:stretch/>
        </p:blipFill>
        <p:spPr>
          <a:xfrm>
            <a:off x="3681360" y="0"/>
            <a:ext cx="546264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0" y="304920"/>
            <a:ext cx="3505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do we associate with drin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alcohol depression"/>
          <p:cNvPicPr/>
          <p:nvPr/>
        </p:nvPicPr>
        <p:blipFill>
          <a:blip r:embed="rId1"/>
          <a:stretch/>
        </p:blipFill>
        <p:spPr>
          <a:xfrm>
            <a:off x="4724280" y="228600"/>
            <a:ext cx="4081680" cy="66294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152280" y="0"/>
            <a:ext cx="4496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is happening here?  What emotional impact do these have on the vie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re are several ways to appeal to an audience.  Among them are appealing to 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logos, ethos and pathos. 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3182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regnant woman with wine"/>
          <p:cNvPicPr/>
          <p:nvPr/>
        </p:nvPicPr>
        <p:blipFill>
          <a:blip r:embed="rId1"/>
          <a:stretch/>
        </p:blipFill>
        <p:spPr>
          <a:xfrm>
            <a:off x="5607000" y="228600"/>
            <a:ext cx="3537000" cy="63244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304920" y="17460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is happening here?  What emotional impact do these have on the vie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alcohol-effects2"/>
          <p:cNvPicPr/>
          <p:nvPr/>
        </p:nvPicPr>
        <p:blipFill>
          <a:blip r:embed="rId1"/>
          <a:stretch/>
        </p:blipFill>
        <p:spPr>
          <a:xfrm>
            <a:off x="4572000" y="0"/>
            <a:ext cx="4378320" cy="6629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0" y="17460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is a PSA?  Which is more effective (respond after seeing both slide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Alcohol is a disease"/>
          <p:cNvPicPr/>
          <p:nvPr/>
        </p:nvPicPr>
        <p:blipFill>
          <a:blip r:embed="rId1"/>
          <a:stretch/>
        </p:blipFill>
        <p:spPr>
          <a:xfrm>
            <a:off x="4648320" y="304920"/>
            <a:ext cx="4322520" cy="6095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52280" y="174600"/>
            <a:ext cx="4419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is a PS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= Public Service Announcement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Which is more effective? Wh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Xb5yTanmi7A&amp;feature=related_x000b_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HMQEggEG4k&amp;feature=related_x000b_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BoE5zaAjr8Q&amp;feature=rel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os, Logos, Path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hare your advertisements and pick one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aple to construction pap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n your construction paper includ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ype of Appeal (ethos, logos, patho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ark/highlight the charged wor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ow it is an example of this appe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y it is or is not effecti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se appeals are prevalent in almost all argum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ogo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Greek word logos is the basis for the English word logic.  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gos refers to any attempt to appeal to the intellect, the general meaning of "logical argument."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day arguments rely heavily on ethos and pathos, but academic arguments rely more on logos: there will be logical chains of reasoning supporting all claims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6324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w of our children breath fresh air in their schools, which are being sprayed, inside and out, with millions of pounds of deadly, nervous system destroying pestic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hat are the details provided in this cla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girlwisconsin"/>
          <p:cNvPicPr/>
          <p:nvPr/>
        </p:nvPicPr>
        <p:blipFill>
          <a:blip r:embed="rId1"/>
          <a:stretch/>
        </p:blipFill>
        <p:spPr>
          <a:xfrm>
            <a:off x="6553080" y="152280"/>
            <a:ext cx="2274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thos: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hos is related to the English word ethics and refers to the trustworthiness of the speaker/writer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hos is an effective persuasive strategy because when we believe that the speaker does not intend to do us harm, we are more willing to listen to what s/he has to s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judge comments on legal precedent audiences tend to listen because it is the job of a judge to know the nature of past legal cas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os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: George Foreman and his Grill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rtoire: Boxing Champ and a Pr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George Foreman cred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gag_icabout"/>
          <p:cNvPicPr/>
          <p:nvPr/>
        </p:nvPicPr>
        <p:blipFill>
          <a:blip r:embed="rId1"/>
          <a:stretch/>
        </p:blipFill>
        <p:spPr>
          <a:xfrm>
            <a:off x="304920" y="4572000"/>
            <a:ext cx="193032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7086600" y="0"/>
            <a:ext cx="1762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atho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hos is related to the words pathetic, sympathy and empathy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you accept an claim based on how it makes you feel without fully analyzing the rationale behind the claim, you are acting on pathos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may be any emotions: love, fear, patriotism, guilt, hate or j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ajority of arguments in the popular press are heavily dependent on pathetic appeals.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eals to pathos touch a nerve and compel people to not only listen, but to also take the next step and act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1:12:49Z</dcterms:created>
  <dc:creator>Tech Resources</dc:creator>
  <dc:description/>
  <dc:language>en-US</dc:language>
  <cp:lastModifiedBy>Nvasquez</cp:lastModifiedBy>
  <dcterms:modified xsi:type="dcterms:W3CDTF">2010-09-23T13:55:27Z</dcterms:modified>
  <cp:revision>11</cp:revision>
  <dc:subject/>
  <dc:title>Logos, Ethos and Pathos</dc:title>
</cp:coreProperties>
</file>